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22000" y="7861320"/>
            <a:ext cx="1054116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0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8412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73440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1130040" indent="-3844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526040" indent="-3844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92132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921320" indent="-384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921320" indent="-384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22000" y="3568320"/>
            <a:ext cx="10541160" cy="2629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63" name=""/>
          <p:cNvSpPr/>
          <p:nvPr/>
        </p:nvSpPr>
        <p:spPr>
          <a:xfrm>
            <a:off x="27720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367920" y="8368920"/>
            <a:ext cx="10845720" cy="66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03" name=""/>
          <p:cNvSpPr/>
          <p:nvPr/>
        </p:nvSpPr>
        <p:spPr>
          <a:xfrm>
            <a:off x="27720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title"/>
          </p:nvPr>
        </p:nvSpPr>
        <p:spPr>
          <a:xfrm>
            <a:off x="367920" y="8368920"/>
            <a:ext cx="10845720" cy="66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43" name=""/>
          <p:cNvSpPr/>
          <p:nvPr/>
        </p:nvSpPr>
        <p:spPr>
          <a:xfrm>
            <a:off x="27720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title"/>
          </p:nvPr>
        </p:nvSpPr>
        <p:spPr>
          <a:xfrm>
            <a:off x="367920" y="8368920"/>
            <a:ext cx="10845720" cy="66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83" name=""/>
          <p:cNvSpPr/>
          <p:nvPr/>
        </p:nvSpPr>
        <p:spPr>
          <a:xfrm>
            <a:off x="27720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title"/>
          </p:nvPr>
        </p:nvSpPr>
        <p:spPr>
          <a:xfrm>
            <a:off x="367920" y="8368920"/>
            <a:ext cx="10845720" cy="66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body"/>
          </p:nvPr>
        </p:nvSpPr>
        <p:spPr>
          <a:xfrm>
            <a:off x="1422000" y="8115120"/>
            <a:ext cx="10845720" cy="74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3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Click to edit the outline text format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1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econd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2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Third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3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Four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4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Fif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ix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even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23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24" name=""/>
          <p:cNvSpPr/>
          <p:nvPr/>
        </p:nvSpPr>
        <p:spPr>
          <a:xfrm>
            <a:off x="277200" y="891540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25" name=""/>
          <p:cNvSpPr/>
          <p:nvPr/>
        </p:nvSpPr>
        <p:spPr>
          <a:xfrm>
            <a:off x="5256360" y="8902800"/>
            <a:ext cx="0" cy="59688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26" name=""/>
          <p:cNvSpPr/>
          <p:nvPr/>
        </p:nvSpPr>
        <p:spPr>
          <a:xfrm>
            <a:off x="277200" y="718812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title"/>
          </p:nvPr>
        </p:nvSpPr>
        <p:spPr>
          <a:xfrm>
            <a:off x="1422000" y="7099200"/>
            <a:ext cx="10845720" cy="102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body"/>
          </p:nvPr>
        </p:nvSpPr>
        <p:spPr>
          <a:xfrm>
            <a:off x="1422000" y="8115120"/>
            <a:ext cx="10845720" cy="74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3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Click to edit the outline text format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1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econd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2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Third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3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Four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4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Fif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ix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even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65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66" name=""/>
          <p:cNvSpPr/>
          <p:nvPr/>
        </p:nvSpPr>
        <p:spPr>
          <a:xfrm>
            <a:off x="277200" y="891540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67" name=""/>
          <p:cNvSpPr/>
          <p:nvPr/>
        </p:nvSpPr>
        <p:spPr>
          <a:xfrm>
            <a:off x="5256360" y="8902800"/>
            <a:ext cx="0" cy="59688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68" name=""/>
          <p:cNvSpPr/>
          <p:nvPr/>
        </p:nvSpPr>
        <p:spPr>
          <a:xfrm>
            <a:off x="277200" y="718812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title"/>
          </p:nvPr>
        </p:nvSpPr>
        <p:spPr>
          <a:xfrm>
            <a:off x="1422000" y="7099200"/>
            <a:ext cx="10845720" cy="102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07" name=""/>
          <p:cNvSpPr/>
          <p:nvPr/>
        </p:nvSpPr>
        <p:spPr>
          <a:xfrm>
            <a:off x="27720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title"/>
          </p:nvPr>
        </p:nvSpPr>
        <p:spPr>
          <a:xfrm>
            <a:off x="367920" y="8368920"/>
            <a:ext cx="10845720" cy="66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38412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73440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1130040" indent="-3844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526040" indent="-3844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92132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921320" indent="-384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921320" indent="-384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041480" y="2768400"/>
            <a:ext cx="5333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33228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63540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97776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32012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66212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041480" y="2768400"/>
            <a:ext cx="5333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33228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63540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97776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32012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66212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1041480" y="4876560"/>
            <a:ext cx="533376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5000"/>
          </a:bodyPr>
          <a:p>
            <a:pPr indent="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lnSpc>
                <a:spcPct val="110000"/>
              </a:lnSpc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lnSpc>
                <a:spcPct val="110000"/>
              </a:lnSpc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629040" y="2768400"/>
            <a:ext cx="53341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33228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63540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97776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32012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66212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1041120" y="1472760"/>
            <a:ext cx="10922040" cy="6807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384120" indent="-384120">
              <a:spcBef>
                <a:spcPts val="47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734400" indent="-384120">
              <a:spcBef>
                <a:spcPts val="47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1130040" indent="-384480">
              <a:spcBef>
                <a:spcPts val="47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526040" indent="-384480">
              <a:spcBef>
                <a:spcPts val="47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921320" indent="-384120">
              <a:spcBef>
                <a:spcPts val="47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921320" indent="-384120">
              <a:spcBef>
                <a:spcPts val="47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921320" indent="-384120">
              <a:spcBef>
                <a:spcPts val="47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pct"/><Relationship Id="rId4" Type="http://schemas.openxmlformats.org/officeDocument/2006/relationships/image" Target="../media/image7.pct"/><Relationship Id="rId5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upload.wikimedia.org/wikipedia/en/c/c2/Actgraph.jpg" TargetMode="External"/><Relationship Id="rId4" Type="http://schemas.openxmlformats.org/officeDocument/2006/relationships/hyperlink" Target="http://z.about.com/d/collegeapps/1/G/P/-/-/-/sat_geeknerd99_flickr.jpg" TargetMode="External"/><Relationship Id="rId5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d5d4d6"/>
                </a:solidFill>
                <a:latin typeface="Helvetica Neue Bold Condensed"/>
              </a:rPr>
              <a:t>ASSESSING INTELLIGENCE</a:t>
            </a: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422000" y="7810560"/>
            <a:ext cx="1054116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PETER LEE AND SEJIN PAIK 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Factors</a:t>
            </a:r>
            <a:endParaRPr b="0" lang="en-US" sz="4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ndardization</a:t>
            </a:r>
            <a:endParaRPr b="0" lang="en-US" sz="32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liability  --&gt; Validity </a:t>
            </a:r>
            <a:endParaRPr b="0" lang="en-US" sz="32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Standardization 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812520" y="222228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Give a test to a group of people</a:t>
            </a:r>
            <a:endParaRPr b="0" lang="en-US" sz="25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Test other people group and use a scoring system to compare the scores</a:t>
            </a:r>
            <a:endParaRPr b="0" lang="en-US" sz="25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Most standardized tests have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normal distributio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shown by a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normal curve</a:t>
            </a:r>
            <a:endParaRPr b="0" lang="en-US" sz="25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Ex: SAT / ACT</a:t>
            </a:r>
            <a:endParaRPr b="0" lang="en-US" sz="25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1"/>
              </a:solidFill>
              <a:latin typeface="Helvetica Neue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3"/>
          <a:stretch/>
        </p:blipFill>
        <p:spPr>
          <a:xfrm>
            <a:off x="4927680" y="5676840"/>
            <a:ext cx="6026040" cy="303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87588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Reliability 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875880" y="260316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liable - consistently good in quality/performance (macbook dictionary)</a:t>
            </a:r>
            <a:endParaRPr b="0" lang="en-US" sz="32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ant the test to be reliable</a:t>
            </a:r>
            <a:endParaRPr b="0" lang="en-US" sz="32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f people take same / similar form of test again, scores should be same / similar</a:t>
            </a:r>
            <a:endParaRPr b="0" lang="en-US" sz="2800" spc="-1" strike="noStrike">
              <a:solidFill>
                <a:srgbClr val="646461"/>
              </a:solidFill>
              <a:latin typeface="Helvetica Neue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3"/>
          <a:stretch/>
        </p:blipFill>
        <p:spPr>
          <a:xfrm>
            <a:off x="6730920" y="495360"/>
            <a:ext cx="4044960" cy="35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041120" y="4568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Validity 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812520" y="1434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336600" indent="-33660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es the test test what really it’s supposed to test?</a:t>
            </a:r>
            <a:endParaRPr b="0" lang="en-US" sz="2800" spc="-1" strike="noStrike">
              <a:solidFill>
                <a:srgbClr val="646461"/>
              </a:solidFill>
              <a:latin typeface="Helvetica Neue"/>
            </a:endParaRPr>
          </a:p>
          <a:p>
            <a:pPr marL="336600"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w do you know if a test is valid?</a:t>
            </a:r>
            <a:endParaRPr b="0" lang="en-US" sz="2800" spc="-1" strike="noStrike">
              <a:solidFill>
                <a:srgbClr val="646461"/>
              </a:solidFill>
              <a:latin typeface="Helvetica Neue"/>
            </a:endParaRPr>
          </a:p>
          <a:p>
            <a:pPr marL="336600"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ent valid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test tests behavior similar to what’s being tested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336600"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: In a Driving test, they ask you to drive</a:t>
            </a:r>
            <a:endParaRPr b="0" lang="en-US" sz="2000" spc="-1" strike="noStrike">
              <a:solidFill>
                <a:srgbClr val="646461"/>
              </a:solidFill>
              <a:latin typeface="Helvetica Neue"/>
            </a:endParaRPr>
          </a:p>
          <a:p>
            <a:pPr marL="336600"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iterion - test is trying to determine something 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336600"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dictive Validity - test tries to predict the future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336600"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: SATs and APs are taken mainly to predict how you might do in college academically</a:t>
            </a:r>
            <a:endParaRPr b="0" lang="en-US" sz="2000" spc="-1" strike="noStrike">
              <a:solidFill>
                <a:srgbClr val="646461"/>
              </a:solidFill>
              <a:latin typeface="Helvetica Neue"/>
            </a:endParaRPr>
          </a:p>
          <a:p>
            <a:pPr marL="336600"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1"/>
              </a:solidFill>
              <a:latin typeface="Helvetica Neue"/>
            </a:endParaRPr>
          </a:p>
          <a:p>
            <a:pPr marL="336600"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1"/>
              </a:solidFill>
              <a:latin typeface="Helvetica Neue"/>
            </a:endParaRPr>
          </a:p>
          <a:p>
            <a:pPr marL="336600"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                                               ??????                          </a:t>
            </a:r>
            <a:endParaRPr b="0" lang="en-US" sz="2000" spc="-1" strike="noStrike">
              <a:solidFill>
                <a:srgbClr val="646461"/>
              </a:solidFill>
              <a:latin typeface="Helvetica Neue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3"/>
          <a:stretch/>
        </p:blipFill>
        <p:spPr>
          <a:xfrm>
            <a:off x="1282680" y="5702400"/>
            <a:ext cx="2521080" cy="1798560"/>
          </a:xfrm>
          <a:prstGeom prst="rect">
            <a:avLst/>
          </a:prstGeom>
          <a:ln w="0">
            <a:noFill/>
          </a:ln>
        </p:spPr>
      </p:pic>
      <p:pic>
        <p:nvPicPr>
          <p:cNvPr id="774" name="" descr=""/>
          <p:cNvPicPr/>
          <p:nvPr/>
        </p:nvPicPr>
        <p:blipFill>
          <a:blip r:embed="rId4"/>
          <a:stretch/>
        </p:blipFill>
        <p:spPr>
          <a:xfrm>
            <a:off x="4444920" y="5460840"/>
            <a:ext cx="2698920" cy="202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761760" y="35532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itations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http://upload.wikimedia.org/wikipedia/en/c/c2/Actgraph.jpg</a:t>
            </a:r>
            <a:endParaRPr b="0" lang="en-US" sz="32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http://z.about.com/d/collegeapps/1/G/P/-/-/-/sat_geeknerd99_flickr.jpg</a:t>
            </a:r>
            <a:endParaRPr b="0" lang="en-US" sz="32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ea typeface="Arial"/>
              </a:rPr>
              <a:t>http://www.mlmabsolute.com/images/choosing-thoughts-to-create-success.jpg</a:t>
            </a:r>
            <a:endParaRPr b="0" lang="en-US" sz="32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How Do We Measure Intelligence?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WAIS (Wechsler Adult Intelligence Scale)  - widely used intelligence test that contains two parts     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Provides clues to cognitive strengths that teachers or employers use to evaluate people 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1st Part: Verbal 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General Information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milarities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Arithmetic Reasoning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Vocabulary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omprehension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Digit Span 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2nd Part:Performance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Picture Completion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Picture Arrangemen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Block Design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Object Assembly 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 </a:t>
            </a: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EXTREMES OF INTELLIGENCE 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(watch video) 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Mental Retardation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ondition of limited mental ability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Intelligence score is lower than 70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Difficulty in adapting to the demands of life 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varies from mild to profound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Down Syndrome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A physical disorder that causes mental retardation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An extra chromosome in one’s genetic makeup </a:t>
            </a:r>
            <a:br>
              <a:rPr sz="3600"/>
            </a:b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888480" y="292068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Principles of Test Construction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041120" y="13932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sychological Tests</a:t>
            </a:r>
            <a:endParaRPr b="0" lang="en-US" sz="4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ptitude Tests</a:t>
            </a:r>
            <a:endParaRPr b="0" lang="en-US" sz="32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titude = natural ability to do something</a:t>
            </a:r>
            <a:endParaRPr b="0" lang="en-US" sz="28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chievement Tests</a:t>
            </a:r>
            <a:endParaRPr b="0" lang="en-US" sz="32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hievement = something that you’ve already done</a:t>
            </a:r>
            <a:endParaRPr b="0" lang="en-US" sz="28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